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38426-F177-43FE-BCC1-5D7DB046A1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E6BC4-8D76-433E-A302-A1D3FCB3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41B0-7E2B-434A-9133-BEE7D38D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E9DC9-8395-49CF-BE04-9E7473924D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8528A-6A59-4B8A-9DC3-29743301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E1B49-6767-448A-8E39-6F757CC5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ACC2D-9C86-424B-B1B4-4DF41535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C4903-0CA0-4CC3-9A16-043EDE22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ECC2-7A8A-4262-9026-0D13FD73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8AD7C-8D18-4DB1-8887-A53FFD12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1967D-CD66-4A9D-9D13-3CA079E6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3409D-62C3-42EB-A682-7BA173FB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D413-1641-4406-8323-5342B08EE3A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七节  传统康复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补虚泻实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证要用补法，虚证要用泻法，中气不足、脉络空虚、脉象沉伏无力、阳气暴脱要用灸法，瘀阻疾病要用刺血法，无虚实可言的疾病可取病变经脉的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99640" y="1125000"/>
            <a:ext cx="600084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局部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局部取穴就是围绕受病的局部取穴。这是根据穴位都能治疗所在部位的局部病症而确定的取穴方法。多用于病变部位比较明确及一些器质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临近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邻近取穴是在距离病变部位比较接近的范围内取穴。多用于治疗胸腹腰背疼痛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55640" y="1054080"/>
            <a:ext cx="650088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远端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远端取穴是在距离病变部位较远的部位选穴。这种选穴方法体现了“经脉所过，主治所及”的治疗规律。多选择四肢肘膝以下的经穴治疗头面、五官、躯干、内脏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辨证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临床上有许多全身性病症，如失眠、发热等，无法确定病变的位置，需要对疾病进行辩证分析，以确定属于某个脏腑或者某条经脉，再按经取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4000" y="1125000"/>
            <a:ext cx="65005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57232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随症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对于个别突出症状，可选择治疗该症状效果显著的穴位。这些穴位是经过长期实践总结出来的有效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539640" y="1557360"/>
            <a:ext cx="6500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推拿疗法是医者用手或者身体其他部位，采用各种特定的动作，按照一定的要求作用于患者体表的穴位或者部位，使其内部的生理或病理状况得到改善，达到预防保健目的的治疗方法。常见按摩手法分类包括：摩擦类、挤压类、摆动类、振动类、叩击类、运动关节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理气活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通过手法作用于穴位可使局部血液循环加快，气机恢复正常，经络通畅，机体得到气血的濡养功能恢复正常则疼痛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整骨复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人体关节由于外力或者自身用力不当引起关节错位或脱位，产生关节肿胀、疼痛、功能障碍或丧失，通过一些特定的手法如：揉法、拔伸法、推法、扳法、按法等可使其得到整复，疼痛消失，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用原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伤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颈椎病、肩周炎、腰椎间盘突出症、腰肌劳损、落枕及各种扭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内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胃痛、头痛、失眠、高血压、面神经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外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乳腺炎、妇科的痛经、闭经、产后耻骨联合分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儿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咳嗽、腹泻、呕吐、疳积、夜啼、惊风、肌性斜颈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适应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国传统体育疗法是以祖国传统医学理论为依据，通过姿势的调整、呼吸的锻炼、意念的应用来调节和增强人体各部分功能，诱导和启发人体内在潜能，起到防病、治病、益智、延年的作用。常见传统体育疗法包括导引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五禽戏、八段锦、易筋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武术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太极拳、太极剑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和气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八段锦是古人创编的八节不同动作组成的一套医疗、康复体操，即双手托天理三焦，左右开弓似射雕，调理脾胃须单举，五劳七伤往后瞧，摇头摆尾去心火，两手攀足固肾腰，攒拳怒目增力气，背后七颠百病消。具有柔筋健骨、养气壮力、行气活血、协调五脏六腑之功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八段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双手托天理三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247840" y="1557360"/>
            <a:ext cx="4648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针灸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传统体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左右弯弓似射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3267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调理脾胃单举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3060720" y="1413000"/>
            <a:ext cx="278928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劳七伤向后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919240" y="1341360"/>
            <a:ext cx="330552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摇头摆尾去心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2900520" y="1909800"/>
            <a:ext cx="33429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181240" y="1328760"/>
            <a:ext cx="47815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328840" y="1600200"/>
            <a:ext cx="4486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背后七颠百病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166920" y="1171440"/>
            <a:ext cx="28101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戏是通过模仿虎，鹿，熊，猿，鸟（鹤）五种动物的动作，以保健强身的一种气功功法。又称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操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气功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百步汗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等。锻炼时要注意全身放松，意守丹田，呼吸均匀，做到形、神与五禽相像。传统五禽戏，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4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动作；由中国体育委员会新编的简化五禽戏，每戏分两个动作，每种动作左右对称，并配合气息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禽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828720" y="1341360"/>
            <a:ext cx="72723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筋经是一种内外兼练的医疗保健养生功法，包括十二势，分别为韦驮献杵、横担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魔杵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掌托天门、摘星换斗势、倒拽九牛尾势、出爪亮翅势、九鬼拔马刀势、三盘落地势、青龙探爪势、卧虎扑食势、打躬势、掉尾势。易筋经强调以一定姿势，借呼吸诱导，逐步加强筋脉和脏腑的功能。适合中、青、老年人群习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4360" y="1125360"/>
            <a:ext cx="728640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筋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DDD6-DDDE-4CAA-9738-A85BFB21E8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343160"/>
            <a:ext cx="8064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针灸疗法的概念、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识别推拿疗法的概念、作用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针灸疗法穴位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传统体育疗法的治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传统康复方法进行康复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0218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2854440"/>
            <a:ext cx="857232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太极拳，是以中国传统儒、道哲学中的太极、阴阳辩证理念为核心思想，集颐养性情、强身健体、技击对抗等多种功能为一体，针对意、气、形、神的锻炼形式，非常符合人体生理和心理的要求，对人类个体身心健康以及人类群体的和谐共处，有着极为重要的促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12720" y="170172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太极拳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043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0AC3-92C1-4D36-B679-2674854AADB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2360" y="2494080"/>
            <a:ext cx="748044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针灸疗法是通过针刺或灸，作用于人体经络、脏腑系统，以疏通经络气血，调节脏腑阴阳，达到康复目的的治疗方法。针灸的部位是经络和穴位，人体经络分为十二正经、奇经八脉，穴位分为十四经穴、阿是穴、奇穴，人体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6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18728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6360" y="2781000"/>
            <a:ext cx="857268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疏通经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疏通经络是针灸治疗最主要最直接的作用。经脉闭阻不通，人体气血运行不畅，在某些部位导致气滞血瘀，会发生肢体或脏腑组织的肿胀疼痛，由于气滞血瘀，某些部位就失去了气血的濡养，会发生肢体的麻木、萎软、拘挛或脏腑组织功能失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64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6720" y="2421000"/>
            <a:ext cx="842976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扶正祛邪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扶正祛邪是针灸治疗的根本法则和手段。疾病的发生、发展和转归的过程就是正气和邪气相互斗争的过程。扶正，就是扶助正气；祛邪，就是祛除病邪。在治疗的过程中，通过选择穴位和应用不同的补泻手法来实现扶正和祛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755640" y="141300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调和阴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调和阴阳是针灸治疗的最终目的。疾病的发生，从根本上说是机体的阴阳失去了相对平衡引起的。治疗疾病，先分清阴阳发生的变化，再通过选择不同的针灸方法使机体的阴阳趋于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77336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治神守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神守气贯穿针灸治疗的全过程，针刺前，医者和患者都需安神定志，针刺过程中，医者和患者要感受针下得气的感觉。治神守气对于经气的运行、加速气至、促进气行以及气至病所都起到重要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28360" y="1413000"/>
            <a:ext cx="6000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清热温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清热温寒是针灸治疗的根本大法之一。热性的疾病可采用浅刺快出或点刺出血，手法轻快，用泻法，少留针或不留针，清泻邪热。寒性疾病可采用深刺而久留针，温经散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99640" y="1054080"/>
            <a:ext cx="600084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15:36Z</dcterms:modified>
  <cp:revision>1</cp:revision>
  <dc:subject/>
  <dc:title>   第四章  康复治疗技术</dc:title>
</cp:coreProperties>
</file>